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A2A5-0B01-446E-B2E8-4556B6E7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7FEC-2E8F-4718-8E73-9EBB810B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E19F-1179-4EF1-9E14-A80BDBEC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F5B6-8A45-4646-823C-919FAE88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FDA1-9DC4-4733-81DB-25FB96A9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E78E-D200-44E5-8CBD-B076B303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86E4-9C6A-460F-9648-2CA2F986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23F4-6422-41E9-A3EA-DF8B2A7A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F536-1C26-4BDB-9EC9-76B8196C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2003-482E-47BE-96EF-408B02B7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5B51-A54D-4722-9027-D2AA249D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689D-5887-4206-9D94-B4C360BC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F079-2201-464B-BD69-8865E90D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9012-BADF-421F-A419-7AC699B8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1FAE-C8F3-4E41-958D-CEDEA1C3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C428-4F89-41C1-ADC7-224BD5C4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F7D9-5DC2-4443-B767-626130C2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722F-6786-4186-98D1-C44D543C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A26-990D-4183-A188-815E77E3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18CB-462D-4427-B31E-6A7A4B87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CFD4-EEF7-4D08-BF26-DC860F38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2DA7-8611-471F-BCCE-FC2591BE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BC26-E74F-402D-8E61-B9C844C6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15BA-1DE6-40FA-822A-8070C2A5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22C2-CA18-49D5-AE62-A08B3EF3C3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FFF6-7E46-4365-AB12-AECC58CF86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Hamle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y William Shakespea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ritten between 1599-160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of the great trage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garded as the most famous of Shakespeare’s play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ay begins with changing of the guard and a ques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at does this mean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in Charac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ing Hamlet – DEAD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ing Claudius – King of Denmar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mlet – son of the dead king, nephew of Claudiu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ratio – Hamlet’s frien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een Gertrude – Hamlet’s moth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lonius – Danish councilor to k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re Charac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ertes – son of Poloniu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helia – daughter of Poloniu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osencrantz and Guildenster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tinbras – Prince of Norw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uiding Ques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is Shakespeare’s take on the aristocrac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re does Catholicism show up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is shown from father-son relationship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ay is grounded in realism, but begins with supernaturalism. What do you make of thi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9T20:56:11Z</dcterms:created>
  <dc:creator>jvanengen</dc:creator>
  <dc:description/>
  <dc:language>en-US</dc:language>
  <cp:lastModifiedBy>jvanengen</cp:lastModifiedBy>
  <dcterms:modified xsi:type="dcterms:W3CDTF">2009-12-29T21:42:45Z</dcterms:modified>
  <cp:revision>3</cp:revision>
  <dc:subject/>
  <dc:title>Hamlet</dc:title>
</cp:coreProperties>
</file>